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1BD1-85FC-4A67-8C2F-D7051FA69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7CB5-FF3D-40DC-A08D-28A23D571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5216-9251-4B9D-9A34-6E1E3CD07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7BC2-7DA7-459B-B440-1454A6329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560B8-C4A8-4BE5-BBD0-7EED97364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75B58-B7ED-426A-B9BC-5F9155C63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1F8E2-580C-4FE8-8214-33C2AA533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FE96F-C7FB-44C0-BA01-B71F92516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AAB24-019C-4434-99DA-CF6EEFE23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5BFDA-4DD3-44FC-9B09-DA63364FB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D4EBC-CBFB-4469-A330-34D437BA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AE23-AD11-4450-BC72-7C8D02A85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EBC71-9C62-4E4D-BC25-1B19F9B2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B9E35-AC04-4E01-9B8A-F1B46995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9ABE0-8B86-48ED-B535-B7A2D3DB9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40B68-C7F3-4721-9E9F-24AFE2B8D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47431-0FC7-4205-8C7D-9A003AD07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13E0B-182F-479F-90C1-0B603E278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EE20E-28B1-4023-A9F4-9FBCB3D2D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F767D-B086-4086-810D-258A1D4A6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874CC-CE44-41AE-8DFA-4D4494EF8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ED93B-4BD0-49C3-8CD3-6A8661E07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D4B9-C10A-4F88-B974-949A37CA9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119B9-9065-43A2-BCF0-CB4CC1E0F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4741C-7E18-469F-9C53-A61BF25A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58140-5263-4663-8470-31BE740C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F8A87-04F9-4C3B-A7E0-C595870E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E8DAC-A0EA-430B-8DBE-9BC908D20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DB9E0-C157-4819-8302-A550F8A7A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C0A37-B789-404D-AC90-D8DD6D825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DAF00-2425-45D5-A792-D0B9CA2EC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46A31-7ADB-4396-A2ED-2BE406904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C2C00-1376-4452-A8AD-74D037975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1060-F636-4DAC-A915-50586F3E7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11187-84F8-4E0E-BB99-91FD1D644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A317C-2276-4B37-8A1F-462A3AE4D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DB287-FEFC-4545-BFF4-73A5C30F3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32D2E-2B92-4281-9026-5D6E875F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27D2A-B9F0-432F-ABF9-E25AE4F3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AF31F-BF63-4820-AD34-C56307CB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05E54-5D1C-4F4A-8AD5-3507A1CCF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F12BC-82DB-4C05-AC17-1FC7DF4AC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1BE3D-A195-434F-BCE1-01CA54D87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B1C8-F63B-4873-8D06-4AF579082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E9E2-8EFB-415D-A585-012E76B80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B0F9-5139-4003-A2ED-D97E0721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6CC2-E138-4A42-B005-D4FE2FDE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E9A1-B5FB-4218-A84A-F4146C39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ECB50-4240-4AFA-B237-699B33A793D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4766E-AAC9-4811-96EB-6BE12EB6E91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07816-0ACF-404C-AB0C-BE3DE2164B3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551E9-D8D2-49B6-9C23-6AD8C68FB9C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fullerton.edu/" TargetMode="External"/><Relationship Id="rId2" Type="http://schemas.openxmlformats.org/officeDocument/2006/relationships/hyperlink" Target="http://www.spherion.com/" TargetMode="External"/><Relationship Id="rId3" Type="http://schemas.openxmlformats.org/officeDocument/2006/relationships/hyperlink" Target="http://www.microsoft.com/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8907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Denny Cherry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Senior Database Administrator / Architect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dcherry@awarenesstech.com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Quest Software SQL Server MVP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MCSA, MCDBA, MCTS, MCITP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source Governo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ynamic Resource CPU/Memory limi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ssions are assigned to Resource Groups for the length of the connec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source throttling via group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x of 20 Resource Group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ta data is stored in master.mdf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source Governo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7 DMVs for manage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3 for metadat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4 for running valu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source Pools get a max CPU percentag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orkload groups get an importance setting based on a resource poo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roup assignment is dynamic based on a UDF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emo …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QL Server 2008 Web Sit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ttp://www.microsoft.com/sq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ttp://ITKnowledgeExchange.techtarget.com/sql-server/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ttp://www.microsoft.com/heroeshappenhere/register/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ttp://www.searchsqlserver.com/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Title 1" descr=""/>
          <p:cNvPicPr/>
          <p:nvPr/>
        </p:nvPicPr>
        <p:blipFill>
          <a:blip r:embed="rId1"/>
          <a:stretch/>
        </p:blipFill>
        <p:spPr>
          <a:xfrm>
            <a:off x="450720" y="701640"/>
            <a:ext cx="832176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anks For Coming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05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PRIZES!!!!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on’t forget we draw prizes on Sunday afternoon, including great products like Acronis and CodeSmith Tools, plus many new books!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ANKS AGAIN TO OUR CONTRIBUTORS!!!!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al State Fullerton (</a:t>
            </a:r>
            <a:r>
              <a:rPr b="0" lang="en-US" sz="22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http://www.fullerton.edu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pherion (</a:t>
            </a:r>
            <a:r>
              <a:rPr b="0" lang="en-US" sz="22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www.spherion.com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Microsoft (</a:t>
            </a:r>
            <a:r>
              <a:rPr b="0" lang="en-US" sz="22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www.microsoft.com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Neudesic (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www.neudesic.com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PDSA Inc. (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www.pdsa.com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QuickStart (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www.quickstart.com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Harbor Objects (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www.harborobjects.com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Odyssey Consulting Group (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www.ocgpros.com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Design Inc. (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www.idesign.net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9T01:54:55Z</dcterms:created>
  <dc:creator>Denny</dc:creator>
  <dc:description/>
  <dc:language>en-US</dc:language>
  <cp:lastModifiedBy>Denny</cp:lastModifiedBy>
  <dcterms:modified xsi:type="dcterms:W3CDTF">2008-01-28T23:11:26Z</dcterms:modified>
  <cp:revision>10</cp:revision>
  <dc:subject/>
  <dc:title>SQL Server 2008</dc:title>
</cp:coreProperties>
</file>