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6BB-166C-47DB-828D-AF8C0ED1A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– points or objects on a 2D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graphy – points or objects on a 3D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325-FAB7-4337-9F46-F264B4D66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0AD-B57C-496F-9110-A8B46F69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607-9435-43CF-A2D8-5FAF490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FF7-9BC0-4C9B-8592-AC4E2EEF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FA1-1575-4FAB-85FB-FE3BD1BB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836-17FF-4456-B305-63EE78A5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846-DD9E-4D1A-8FE1-E301680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CD7E-5204-4954-B174-7D7C954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B019-8AFE-4EC7-8C7A-BFD0509F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B254-AA36-4424-A160-CDFD8999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085D-7585-4BD7-A97C-35835F82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4824-3E9F-4BC4-B543-78D1FE9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28D-0B0B-46B4-A537-CF0040D7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D221-C3F2-4003-8383-D770748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1003-0734-4E89-A0CB-89E1A40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78D2-4870-4A87-B92E-90979EE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85A-E8F2-4749-B5AD-3CD5B82A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5119-1A5D-4846-ADAF-0005BD13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0D31-DBDD-4A9E-8E78-4FCFFE67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3648-FC5F-40CF-86EF-EA5DC101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ED8F-70BE-485B-B254-4C19839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9005-19D9-48E6-A28E-FED28FA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B883-7220-4D32-AB7B-9C20CBA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0C7-DE02-404F-90A5-3E73EE91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F62C-96A0-4808-AA2D-A8BDC5D2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6993-64E4-4C88-869B-EFD0A7A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6B04-6174-4DB5-8B80-070CB58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87F3-0A5D-46A2-9FF5-9E696C5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374B-A498-4B4A-A9CC-409906A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0FFB-E788-406E-89D9-9AAA7203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CB3E-EDB0-4791-9366-4D271E4F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3E23-0005-45E3-B205-212F0B8B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7340-41FE-4D47-BC5B-89956A59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970A-097B-4D1C-9C7E-05047F0B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DAA-7F3C-4DDC-831A-6A2D778D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65E7-75F7-4AE2-827A-7289B7A0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3A7A-0E34-4253-AC2A-A803DE0C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52E0-31B6-413E-BB38-7B7C8648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2F13-C01E-4156-8B02-DD59EFB5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2CB4-DCDC-4290-AE6F-62A4E1E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0410A-A049-4DAF-85B0-C28FCA30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776D-B449-4BDC-AD65-97A1F78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C050-4057-4ADC-A1A1-2C11173B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8196-FE4C-43D7-B199-13DC397E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E52-9D0B-4AA4-9A43-A43E9AAA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B09-89D6-4A7F-85AF-4DA2B65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4EB-2CB8-4840-A636-7A31225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831-BBC3-4ADB-8334-EAB22B5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A58-0A3A-4BE0-B201-3DD8D04C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36C-C6C7-479E-9435-AAEA9BC752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901-B708-4332-BE36-E2F89AD7B4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85FC-E245-404A-BB29-09ACCCB1E3A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4C10-2412-4417-A06B-E0FD4155705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ullerton.ed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logs.technet.com/dataplatforminsider/default.aspx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890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Quest Software SQL Server MV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 Govern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 DMVs for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 for meta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 for running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 Pools get a max CPU percent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load groups get an importance setting based on a resource p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assignment is dynamic based on a UD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 #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2008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nowledgeExchang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heroeshappenhere/regist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s For Com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ZE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n’t forget we draw prizes on Sunday afternoon, including great products like Acronis and CodeSmith Tools, plus many new book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NKS AGAIN TO OUR CONTRIBUTOR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 State Fullert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ullerton.ed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herion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spherion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sof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microsof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udesic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neudesic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DSA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pdsa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QuickStar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quickstar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rbor Objects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harborobject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yssey Consulting Group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ocgpro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sign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idesign.ne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ease Postponed until Q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blogs.technet.com/dataplatforminsider/default.asp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TP6 should be ready for the Heroes Happen Here ev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C1 should be ready ~Q2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TM should be ready ~Q3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C:\Users\Denny\AppData\Local\Microsoft\Windows\Temporary Internet Files\Content.IE5\GOXNLCEN\MCj04238440000[1].wmf"/>
          <p:cNvPicPr/>
          <p:nvPr/>
        </p:nvPicPr>
        <p:blipFill>
          <a:blip r:embed="rId2"/>
          <a:stretch/>
        </p:blipFill>
        <p:spPr>
          <a:xfrm>
            <a:off x="3352680" y="4267080"/>
            <a:ext cx="20098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Data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etime2(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etimeoffset(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erarchy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eStr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 Defined Table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 #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agement Studio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name is now ssms.ex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I prevents you from making table changes which cause the table to be dropp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top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it top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 Permissions now displayed when viewing object permiss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ther Cool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ble variable Input Parame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LARE and SET in a single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tive Intellisen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SIS now supports C#.NET and VB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hange trac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ns of folder options when instal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ing Services No longer requires I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nge to S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NET Scripts within SSIS Packages now support C# and V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“File Access Task” task which checks if the file exists and is not lock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“Reset Row Counts” tasks which updates or resets the row counts from data col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“Trace Start Script” task which will start a SQL Profiler 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 Govern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ynamic Resource CPU/Memory lim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ssions are assigned to Resource Groups for the length of the conn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 throttling via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 of 20 Resource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a data is stored in master.md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0:40:01Z</dcterms:created>
  <dc:creator>Denny</dc:creator>
  <dc:description/>
  <dc:language>en-US</dc:language>
  <cp:lastModifiedBy>Denny</cp:lastModifiedBy>
  <dcterms:modified xsi:type="dcterms:W3CDTF">2008-01-28T23:11:56Z</dcterms:modified>
  <cp:revision>75</cp:revision>
  <dc:subject/>
  <dc:title>SQL Server 2008</dc:title>
</cp:coreProperties>
</file>