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96EC-7EF7-4B42-9780-C5277F1E7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E2F6-2CB7-4B39-8183-8C7EDE493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6604-D9B2-439F-B35F-EEB45AA9E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6A70-2A30-460C-AA5C-BFA2358E1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5324F-4B26-4BC5-B38E-C5CFD7BC4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0FA32-B49A-44EF-BEA6-E3D62513C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9CFCA-99A2-4CC7-AB1E-83B3BB920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6AA34-02FF-4ACB-B046-2B0F40C98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3D5B5-6F44-4A2B-881A-69521229C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2E455-E4B9-4A6B-BBD2-59ED26033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0AC74-B7C9-4B7F-A153-83FA6736A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7BDB-2F07-4C12-A815-BC7F30596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0ABFF-416C-4420-9416-9A3AA7739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0244E-BEB2-4309-B041-98131AB4A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A272E-04ED-4D80-82E6-2E1F1F87A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E0115-1CE6-4FD1-8782-1AD9BD4C8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7B66D-9208-4E20-9655-650BB12E4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6A04F-23FA-4372-8302-1F2DA140E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50A16-223D-45E5-B0F3-289C1A9E2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4A528-92E7-42E6-995F-6A3A7C673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FA16B-9300-4829-B0EE-63E78D2DC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324E7-B830-45AF-9932-CDD2DA311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6D30-B610-4E7E-8546-92CFEF6CA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3F710-67A4-4258-A2DF-73F1F6153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C4831-F238-4623-B3F5-A4FEEB3B8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7BD75-B1E9-42FB-8131-5B8B8DC1F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71C0D-8E98-4AFF-B72B-EF42BFDD0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BDB04-E6BC-4C5C-BBE6-E85EB8599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79236-2D65-4418-AD8C-E8BBC8CC6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B1A3C-D2A4-452D-905A-E1287220A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70D3C-CEF6-42AA-90EA-8ED31C23E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E2EC3-30A5-4B31-A192-4B370D481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215AA-81B7-477F-8BD2-07995C782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34A3-6ECC-4CF4-A876-B3621E8DC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88E3D-F0A8-48E8-BDA7-07860588D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14F17-3C36-4048-A20B-98822CAEC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8DEE5E-AC26-4C99-87F2-807DCF51E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05947-2324-4A3B-9802-CEF985F54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3683A-5C3B-441C-A3A2-CC0FCCC36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5D839-4DED-46D9-8592-F5F2CA9C7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832F0-7046-42DC-BED1-9A1E883EA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58D6D-5EAF-4B3D-9C67-195973313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164AC-FFE7-41B1-9347-CC7DDE24A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FD2B-7830-42FA-A973-4E05F8081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E243-0323-4FA1-B2B9-4D6C1D8F7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40FB-B5C2-4B33-8458-0651AF222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9E27-B691-4854-AB3D-D22AE4BDF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B0F1-5F47-448D-B0E5-13C3F03F6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1FA34-4EF9-4CB8-8C22-FB418239720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DAB2A-DA15-4144-8D3B-CEDEA374B5B6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8D264-D44D-403A-94BC-DFBFCD6AFAC2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3B83D-FBCD-443B-935B-B223A29660C7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fullerton.edu/" TargetMode="External"/><Relationship Id="rId2" Type="http://schemas.openxmlformats.org/officeDocument/2006/relationships/hyperlink" Target="http://www.spherion.com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8907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Denny Cherry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Senior Database Administrator / Architect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dcherry@awarenesstech.com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Quest Software SQL Server MVP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MCSA, MCDBA, MCTS, MCITP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mproving Query performanc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view your Execution Pla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maller Faster Transac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est Case Limit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dex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e Return Variables or OUTPUT parameters from Stored Procedures when ever possib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ever user SELECT INTO – It locks system objec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emp Tables vs. Table Variabl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emp Tables are Session Bas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able Variables are Batch Bas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able Variables require less recompi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emp Tables are good for larger data sets; Table Variables for smaller data se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able Variables do write to the dis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Buffer Cache Queri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lect * from sys.dm_exec_cached_pla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lect * from sys.dm_exec_query_pla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Query Dem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QL Server Web Sit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ttp://www.microsoft.com/sq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ttp://ITKnowledgeExchange.techtarget.com/sql-server/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ttp://www.microsoft.com/heroeshappenhere/register/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ttp://www.searchsqlserver.com/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anks For Coming!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051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PRIZES!!!!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Don’t forget we draw prizes on Sunday afternoon, including great products like Acronis and CodeSmith Tools, plus many new books!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ANKS AGAIN TO OUR CONTRIBUTORS!!!!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Cal State Fullerton (</a:t>
            </a:r>
            <a:r>
              <a:rPr b="0" lang="en-US" sz="22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http://www.fullerton.edu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Spherion (</a:t>
            </a:r>
            <a:r>
              <a:rPr b="0" lang="en-US" sz="22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www.spherion.com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Microsoft (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onstantia"/>
              </a:rPr>
              <a:t>www.microsoft.com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Neudesic (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onstantia"/>
              </a:rPr>
              <a:t>www.neudesic.com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PDSA Inc. (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onstantia"/>
              </a:rPr>
              <a:t>www.pdsa.com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QuickStart (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onstantia"/>
              </a:rPr>
              <a:t>www.quickstart.com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Harbor Objects (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onstantia"/>
              </a:rPr>
              <a:t>www.harborobjects.com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Odyssey Consulting Group (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onstantia"/>
              </a:rPr>
              <a:t>www.ocgpros.com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Design Inc. (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onstantia"/>
              </a:rPr>
              <a:t>www.idesign.net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9T01:54:55Z</dcterms:created>
  <dc:creator>Denny</dc:creator>
  <dc:description/>
  <dc:language>en-US</dc:language>
  <cp:lastModifiedBy>Denny</cp:lastModifiedBy>
  <dcterms:modified xsi:type="dcterms:W3CDTF">2008-01-28T23:12:13Z</dcterms:modified>
  <cp:revision>25</cp:revision>
  <dc:subject/>
  <dc:title>SQL Server 2008</dc:title>
</cp:coreProperties>
</file>